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523-4AC8-4071-9E89-32CD8FCA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19C-1DAB-41F5-B9A9-DDB28575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31E-EDCA-4ED7-AF7E-4A17B2BA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341-93E9-48E5-B164-CE531890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49F5-3606-4BCC-9E5E-C839A187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8B63-DF44-43FF-B4B2-80E77DEE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EB5F-4FEC-4831-A661-05EEFAFF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A5AA-892A-4F0B-A900-1F8482F5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F8EB-B6EF-4412-9542-8B83CDC3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DC05-33CD-436B-904A-CCB98F6C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9952-033D-443F-9617-57547BA1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81E-72A7-467E-996C-D9B38743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2176-2F35-4045-BDE5-7430ED02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5119-A86A-4495-A6F4-B6E49B63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78B3-7779-4269-893D-B8AC4D7D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CA84-8D3F-4FF7-BD93-4553E0C6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6C44-BA70-4AF6-AA60-B0343174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9697-8AEB-4CDE-9A5F-347AAD2C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5D24F-9CC6-4D60-B39B-F38AA891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51A46-AC71-4958-B6B1-9758D96D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ED0B1-5FCA-434F-B7BD-B4A97031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BC801-5CFC-4860-BFAB-E7B346C6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5CB-2696-4401-95AC-8B3C2D9B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BD4E-F1B5-4CA3-B7D6-22F68F4C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D654-A5D6-40CB-BC07-DCF3CFC1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AB892-B5C4-4227-8781-5D9531FB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BE73-C4EE-429C-8802-5ABBFAE4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AB70-0C11-4020-8817-5FD2B080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5744E-EEBB-4BDA-9204-F776254D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A783-36CF-4E15-99BE-62BA4FF6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1ED37-D74E-4688-A308-CE0BECD6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0AFF3-3D16-4F7F-90E7-574FC7A6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4F32A-7BF1-4F95-A0D5-261C368C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148-67AC-4B78-8CE2-01CBE474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E101C-660D-48BD-9B6E-40892FB7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5018A-C151-4A74-AEB0-6EEEDD10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CC49B-A41A-46BB-925B-4CC8E933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CE6E2-8EE4-4131-81F4-7BEB4F4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49027-EE44-43AD-AB1E-66001AEA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A54A-9B86-45E3-A79D-82FDEFB6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8C1C6-021E-4107-98FF-455062E1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2AED3-9993-480C-AAC7-A1EC4ABD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99402-9AFD-4C53-A5EC-B7EB8114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3145A-9CEC-419A-BD80-22756D6C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DE6-87DA-4D62-AC75-20ACDE3B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9DE80-9272-4041-AE05-9F11D978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BEB74-0056-4B15-920B-D13004F8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C21DB-E092-4F68-9F5F-9065B9A8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33F22-236F-49DF-8216-0520026E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24BAF-5019-4FE3-B4A0-B5CB9CC2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5D60F-4878-4127-8EF1-FC66582F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D7975-AFB4-4C28-B6EE-51A6728F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A1A8C-B9AD-40C0-8C97-E519E061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00BBB-3F39-4EC1-8C25-C8927B4D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2B52D-4011-447C-938A-5563406A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7F2-20E7-4D41-AB30-44545754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AA8DF-5A74-48A6-9D50-712066BF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824BD-ED53-4AA8-8F4B-6FC1823A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DFFF6-F5AF-4DDD-92F3-9B348A45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E6647-7458-47D6-B7D6-1F211E6B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98D3-56BD-481A-ADAC-623F78C6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FCBD9-E9AD-45FC-863E-4071FA04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DD221-C74A-4341-B5E7-9D010586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A1D62-F96D-49AA-92DB-BB129AE0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6CE2B-F1CD-4CD2-BC37-E832E91E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D68E8-FEE4-4103-A360-59809E2F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1D5-2954-4CF8-8796-DD7D12E4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28155-2282-488E-8393-A952C2C0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4B1C9-C063-4485-A356-5037456D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C5A0F-FD59-48B0-8ACD-3918DD2A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3EAD4-5093-405F-BA55-0B19B5CF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FAEEA-804B-45F9-978B-D4A80543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390D2-9775-4880-84C3-56A0E484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B8E5E-B2A4-468F-A200-6EE5A57F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F5268-1DFA-43B3-A58A-71ACECBF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57A0C-FC19-4215-ADDD-5A2EA682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2F076-4650-4E8D-9EAB-A4268D1D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2CC-301A-4618-B1DB-5C63250B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97A1E-B0F0-47B5-B37B-A5966A83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E9B36-57E6-44CE-A5F3-20BE7E13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50EA6-CAA1-440B-91F0-AB94D654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A0297-CA37-4D74-9CE2-C180C3B4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03574-FF53-41F4-B6B4-6ADC624A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1EC-2D74-4601-BDBB-46F36771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8F68-3D5C-492E-9780-43ADF91CDBC5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0628-860B-4450-8D9D-5059235B50C1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B450-47B8-45F4-9DB7-0A5188151B1B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3EBF-9A6B-4A5E-B1D2-BB3181D46721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직사각형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E981-8230-404B-8084-D088819183B8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직사각형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직사각형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C774-05F6-4010-9C36-E73FC1CD2A38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사각형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직사각형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4277-27E9-498A-81AA-13409A9D6D67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1. Sample Types &amp; Considering Factors for Collec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ample Typ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physical conditions ; solid, liquid, or gas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representativeness; bulk, partial, or mixed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conventional names; Rock, soil, stream water, groundwater, coal, plant, food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 essential requisite for the sample is the </a:t>
            </a:r>
            <a:r>
              <a:rPr b="1" lang="en-US" sz="1700" spc="-1" strike="noStrike">
                <a:solidFill>
                  <a:srgbClr val="ff0000"/>
                </a:solidFill>
                <a:latin typeface="Corbel"/>
              </a:rPr>
              <a:t>representativeness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of the object of sampling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n,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urpose of sampling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udget  for  the analysis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haracteristics (Types) of the sample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VAN_VEEN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137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tools_vanveen_en_162213"/>
          <p:cNvPicPr/>
          <p:nvPr/>
        </p:nvPicPr>
        <p:blipFill>
          <a:blip r:embed="rId2"/>
          <a:stretch/>
        </p:blipFill>
        <p:spPr>
          <a:xfrm>
            <a:off x="179280" y="386064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alpinevirbracore2"/>
          <p:cNvPicPr/>
          <p:nvPr/>
        </p:nvPicPr>
        <p:blipFill>
          <a:blip r:embed="rId3"/>
          <a:stretch/>
        </p:blipFill>
        <p:spPr>
          <a:xfrm>
            <a:off x="3419640" y="285264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K-B"/>
          <p:cNvPicPr/>
          <p:nvPr/>
        </p:nvPicPr>
        <p:blipFill>
          <a:blip r:embed="rId4"/>
          <a:stretch/>
        </p:blipFill>
        <p:spPr>
          <a:xfrm>
            <a:off x="6227640" y="836640"/>
            <a:ext cx="2552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Mostly depends on the distribution of the sedi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y similar to the soil sample treatm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fraction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5. Rock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ock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in size: generally sample size should be 60 times larger than the grain size ex) &lt;1/16cm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 3*4*1 cm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ucture &amp; textu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hies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2. Collection &amp; Pretreatment of Water Samp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Water samples?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urface water (Streams, lakes, springs, etc.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Groundwa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Meteoric water (rain, snow, fog, etc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 of water sampling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Variable properties responding to a number of surrounding conditions such as T, P, time, biota, geology,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hould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ater typ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arameters measured in the fiel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pretreat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eological &amp; Hydrological condition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emporal &amp; spatial varia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440"/>
            <a:ext cx="2890800" cy="158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coo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Grab sampl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ailor / Bomb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um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www.korearth.net/lecture/geochem/gchem_anal/ch03/w_scoop.jpg"/>
          <p:cNvPicPr/>
          <p:nvPr/>
        </p:nvPicPr>
        <p:blipFill>
          <a:blip r:embed="rId2"/>
          <a:stretch/>
        </p:blipFill>
        <p:spPr>
          <a:xfrm>
            <a:off x="3419640" y="17733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http://www.korearth.net/lecture/geochem/gchem_anal/ch03/bailer1.gif"/>
          <p:cNvPicPr/>
          <p:nvPr/>
        </p:nvPicPr>
        <p:blipFill>
          <a:blip r:embed="rId3"/>
          <a:stretch/>
        </p:blipFill>
        <p:spPr>
          <a:xfrm>
            <a:off x="3059280" y="2997360"/>
            <a:ext cx="1820520" cy="3698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http://www.korearth.net/lecture/geochem/gchem_anal/ch03/w_bomb.gif"/>
          <p:cNvPicPr/>
          <p:nvPr/>
        </p:nvPicPr>
        <p:blipFill>
          <a:blip r:embed="rId4"/>
          <a:stretch/>
        </p:blipFill>
        <p:spPr>
          <a:xfrm>
            <a:off x="826920" y="3573360"/>
            <a:ext cx="2219400" cy="274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http://www.korearth.net/lecture/geochem/gchem_anal/ch03/s_pump2.jpg"/>
          <p:cNvPicPr/>
          <p:nvPr/>
        </p:nvPicPr>
        <p:blipFill>
          <a:blip r:embed="rId5"/>
          <a:stretch/>
        </p:blipFill>
        <p:spPr>
          <a:xfrm>
            <a:off x="6084720" y="3716280"/>
            <a:ext cx="2876760" cy="291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korearth.net/lecture/geochem/gchem_anal/ch03/w_grab.jpg"/>
          <p:cNvPicPr/>
          <p:nvPr/>
        </p:nvPicPr>
        <p:blipFill>
          <a:blip r:embed="rId6"/>
          <a:stretch/>
        </p:blipFill>
        <p:spPr>
          <a:xfrm>
            <a:off x="4859280" y="1844640"/>
            <a:ext cx="2376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Pretreatmen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Filt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Removal of SS &amp; (microbes),  with 0.1, 0.2 or 0.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 pore membra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cidific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Prohibiting pptn of the DS, with HNO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Steriliz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Killing all the microbes, with HgCl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Refrige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Supress microbial activity at 4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www.korearth.net/lecture/geochem/gchem_anal/ch03/filter_app.jpg"/>
          <p:cNvPicPr/>
          <p:nvPr/>
        </p:nvPicPr>
        <p:blipFill>
          <a:blip r:embed="rId2"/>
          <a:stretch/>
        </p:blipFill>
        <p:spPr>
          <a:xfrm>
            <a:off x="1476360" y="3716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korearth.net/lecture/geochem/gchem_anal/ch03/hand_vac.jpg"/>
          <p:cNvPicPr/>
          <p:nvPr/>
        </p:nvPicPr>
        <p:blipFill>
          <a:blip r:embed="rId3"/>
          <a:stretch/>
        </p:blipFill>
        <p:spPr>
          <a:xfrm>
            <a:off x="4500720" y="3860640"/>
            <a:ext cx="39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3. Soil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profil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s &amp; local geolog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Land us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hovel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moistu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hand1_l-soil-sampling-auger-water-level"/>
          <p:cNvPicPr/>
          <p:nvPr/>
        </p:nvPicPr>
        <p:blipFill>
          <a:blip r:embed="rId1"/>
          <a:stretch/>
        </p:blipFill>
        <p:spPr>
          <a:xfrm>
            <a:off x="250920" y="260280"/>
            <a:ext cx="4286160" cy="432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10_b"/>
          <p:cNvPicPr/>
          <p:nvPr/>
        </p:nvPicPr>
        <p:blipFill>
          <a:blip r:embed="rId2"/>
          <a:stretch/>
        </p:blipFill>
        <p:spPr>
          <a:xfrm>
            <a:off x="39528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23_Soil-Sampling_3col"/>
          <p:cNvPicPr/>
          <p:nvPr/>
        </p:nvPicPr>
        <p:blipFill>
          <a:blip r:embed="rId3"/>
          <a:stretch/>
        </p:blipFill>
        <p:spPr>
          <a:xfrm>
            <a:off x="4714920" y="40464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VL_sampler"/>
          <p:cNvPicPr/>
          <p:nvPr/>
        </p:nvPicPr>
        <p:blipFill>
          <a:blip r:embed="rId4"/>
          <a:stretch/>
        </p:blipFill>
        <p:spPr>
          <a:xfrm>
            <a:off x="3851280" y="3408480"/>
            <a:ext cx="5087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Barbell clus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Nested Cel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atified vs. unstratifi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ry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ev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emoval of organic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nd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age008"/>
          <p:cNvPicPr/>
          <p:nvPr/>
        </p:nvPicPr>
        <p:blipFill>
          <a:blip r:embed="rId1"/>
          <a:stretch/>
        </p:blipFill>
        <p:spPr>
          <a:xfrm>
            <a:off x="684360" y="1989000"/>
            <a:ext cx="3744720" cy="304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mt89illust1"/>
          <p:cNvPicPr/>
          <p:nvPr/>
        </p:nvPicPr>
        <p:blipFill>
          <a:blip r:embed="rId2"/>
          <a:stretch/>
        </p:blipFill>
        <p:spPr>
          <a:xfrm>
            <a:off x="5364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4. Sediment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patial (horizontal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tical (depth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distribu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Temporal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edimentation mechanism (sedimentation media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isturbance by samp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al r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1:44:53Z</dcterms:created>
  <dc:creator>user</dc:creator>
  <dc:description/>
  <dc:language>en-US</dc:language>
  <cp:lastModifiedBy>user</cp:lastModifiedBy>
  <dcterms:modified xsi:type="dcterms:W3CDTF">2011-11-14T23:57:18Z</dcterms:modified>
  <cp:revision>27</cp:revision>
  <dc:subject/>
  <dc:title>Ch. 2. BASICS of GEOCHEMICAL ANALYSIS</dc:title>
</cp:coreProperties>
</file>